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FFC-25AC-4BF2-84EA-49C20E64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983-057D-4BFC-B3DF-EB4A377B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E20-3CB9-468C-9F7B-818B76D0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87B-2F2A-4EDA-98C0-14FB7296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974-C98D-4773-9244-33D9A30F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7DC-47D5-4C4E-8114-4221ACFC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61B-8308-4212-AAC5-ABD76A75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CBA-F140-4513-92FC-69275375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395-12A3-4B08-8E01-9E2EC914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155-7FE1-4B64-B504-94E7915F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DDE-D2BD-4E23-9214-8184114E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CEA-EA58-4E12-B567-024F7DDF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943D-C05B-4CFF-BBBE-00631F441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: How did the Atlantic Slave trade shape the lives and economies of Africans and Europe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-up: vocab pg 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ular trade, mutiny, Middle Pa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656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315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81080" y="349200"/>
            <a:ext cx="70106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lackChancery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BlackChancery"/>
              </a:rPr>
              <a:t>Coffin” Position Below D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6705720" cy="45770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81080" y="92160"/>
            <a:ext cx="70106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BlackChancery"/>
              </a:rPr>
              <a:t>African Captives</a:t>
            </a:r>
            <a:br>
              <a:rPr sz="4100"/>
            </a:br>
            <a:r>
              <a:rPr b="1" lang="en-US" sz="4100" spc="-1" strike="noStrike">
                <a:solidFill>
                  <a:srgbClr val="333399"/>
                </a:solidFill>
                <a:latin typeface="BlackChancery"/>
              </a:rPr>
              <a:t>Thrown Overboar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6019920" cy="4515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2590920" y="6172200"/>
            <a:ext cx="579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24f00"/>
                </a:solidFill>
                <a:latin typeface="Comic Sans MS"/>
              </a:rPr>
              <a:t>Sharks followed the slave ship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triangl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portation of Africans to North America and the Caribbean formed one side of what has become known a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angle tra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s would load up with guns, ammunition and manufactured goods in Britain and France, then sail for four months to West Africa where the cargo was exchanged for Afric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ame the middle passage across the Atlantic, and the sale of the African people in the Caribbean and in North American colon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ly, the ships loaded up with the sugar, tobacco and cotton produced in the colonies and sailed back to England and France where the raw produce was refined and re-exported to other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ww.nald.ca/fulltext/caribb/page12.htm - 3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69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 million West Afric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re captured and shipped across the Atlantic to work on plantations, but it is estimated that only half survived the journe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fricans were often held in prisons for a long time before the ships came and then had a long journey, known 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middle pass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cross the sea to the Caribbe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fricans were chained together and crammed into holds on board ships and were subject to horrible living conditions, cruelty and tor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ring death to slavery, some of the Africans managed to break their chains and dive overboard; others succumbed to disease. Millions of others braved the deplorable journey to face a harsh life on the plant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members.tripod.com/lylesj/trade/route.gif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05120" y="228600"/>
            <a:ext cx="70866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BlackChancery"/>
              </a:rPr>
              <a:t>The Slave Tra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143000"/>
            <a:ext cx="7315200" cy="54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spcBef>
                <a:spcPts val="1749"/>
              </a:spcBef>
              <a:buClr>
                <a:srgbClr val="ff7c2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isted in Africa before the coming of the Europ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749"/>
              </a:spcBef>
              <a:buClr>
                <a:srgbClr val="ff7c2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rtuguese replaced European slaves with Afric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12640">
              <a:lnSpc>
                <a:spcPct val="100000"/>
              </a:lnSpc>
              <a:spcBef>
                <a:spcPts val="1500"/>
              </a:spcBef>
              <a:buSzPct val="128521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gar cane &amp; sugar pla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12640">
              <a:lnSpc>
                <a:spcPct val="100000"/>
              </a:lnSpc>
              <a:spcBef>
                <a:spcPts val="1500"/>
              </a:spcBef>
              <a:buSzPct val="128521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rst boatload of African slaves brought by the Spanish in 15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512640">
              <a:lnSpc>
                <a:spcPct val="100000"/>
              </a:lnSpc>
              <a:spcBef>
                <a:spcPts val="1500"/>
              </a:spcBef>
              <a:buSzPct val="12852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75,000 enslaved Africans expor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other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spcBef>
                <a:spcPts val="1749"/>
              </a:spcBef>
              <a:buClr>
                <a:srgbClr val="ff7c2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ween 1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&amp; 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about 10 million Africans shipped to the Ame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69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in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labor on pla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Africans were thought to be a cheap labor force b/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orked in hot cl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new to th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mmune to European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experience in farm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,000 slaves in the Southern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,000 slaves in the Northern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by ship, through the middle pa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died on the voy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ships called floating coff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81080" y="457200"/>
            <a:ext cx="6858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lackChancery"/>
              </a:rPr>
              <a:t>Trans-Atlantic Slav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09880" y="1828800"/>
            <a:ext cx="6981840" cy="4056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152280"/>
            <a:ext cx="6858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lackChancery"/>
              </a:rPr>
              <a:t>Slave 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6629400" cy="4972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352680" y="6156360"/>
            <a:ext cx="403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24f00"/>
                </a:solidFill>
                <a:latin typeface="Comic Sans MS"/>
              </a:rPr>
              <a:t>“</a:t>
            </a:r>
            <a:r>
              <a:rPr b="1" lang="en-US" sz="2600" spc="-1" strike="noStrike">
                <a:solidFill>
                  <a:srgbClr val="c24f00"/>
                </a:solidFill>
                <a:latin typeface="Comic Sans MS"/>
              </a:rPr>
              <a:t>Middle Passag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2:17:46Z</dcterms:created>
  <dc:creator>shoyer</dc:creator>
  <dc:description/>
  <dc:language>en-US</dc:language>
  <cp:lastModifiedBy>shoyer</cp:lastModifiedBy>
  <dcterms:modified xsi:type="dcterms:W3CDTF">2009-10-22T12:23:16Z</dcterms:modified>
  <cp:revision>2</cp:revision>
  <dc:subject/>
  <dc:title>Slavery</dc:title>
</cp:coreProperties>
</file>